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2.jpeg" ContentType="image/jpeg"/>
  <Override PartName="/ppt/media/hammer.wav" ContentType="audio/x-wav"/>
  <Override PartName="/ppt/media/image11.png" ContentType="image/png"/>
  <Override PartName="/ppt/media/image19.jpeg" ContentType="image/jpeg"/>
  <Override PartName="/ppt/media/type.wav" ContentType="audio/x-wav"/>
  <Override PartName="/ppt/media/image8.jpeg" ContentType="image/jpeg"/>
  <Override PartName="/ppt/media/image7.png" ContentType="image/png"/>
  <Override PartName="/ppt/media/image22.jpeg" ContentType="image/jpeg"/>
  <Override PartName="/ppt/media/image6.jpeg" ContentType="image/jpeg"/>
  <Override PartName="/ppt/media/image10.png" ContentType="image/png"/>
  <Override PartName="/ppt/media/glass.wav" ContentType="audio/x-wav"/>
  <Override PartName="/ppt/media/image5.jpeg" ContentType="image/jpeg"/>
  <Override PartName="/ppt/media/image4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3.jpeg" ContentType="image/jpeg"/>
  <Override PartName="/ppt/media/explode.wav" ContentType="audio/x-wav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DA4E-8195-46DF-B8E0-BF482EFE24B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st Lecture: 9/30/05, 2:0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rd Lecture: 10/14/05, 2:00 pm: Real World Ion-optical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th Lecture: 12/2/05, 2:00 pm: Separator Syste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Lecture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st Lecture: 9/30/05, 2:0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nd Lecture: 10/7/05, 2:00 pm: Ion-optical elements, properties &amp; de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3rd Lecture: 10/14/05, 2:00 pm: Real World Ion-optical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4th Lecture: 12/2/05, 2:00 pm: Separator Syste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5th Lecture: 12/9/05, 2:00 pm: Demonstration of Codes (TRANSPORT, COSY, MagNet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efining a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Ion-optical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element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 TRANSPORT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Q, y, F, 1, dp/p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1, 2,  3,  4, 5,   6  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nvenient “easy to use” program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for beam lines with paraxial beam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ode: COSY Infinity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(x, a, y, b, l, dK, dm, dz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eeded for complex ion-optical systems including several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harge stat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ifferent mass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velocities (e.g. Wien Filter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higher order corrections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K = dK/K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m = dm/m = rel. energ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z  = dq/q = rel. charge chang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  =  px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b  =  py/p0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 propertie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 defined in the figure are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dp/p = rel. momentu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l = beam pulse length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All parameters are rel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to “central ray”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central ray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Note: Notations in the Literature is not consistent! Sorry, neither will I be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 TRANSPORT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Q, y, F, 1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de: COSY Infinity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, a, y, b, l, dK, dm, dz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ed for complex ion-optical systems including sever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rge sta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locities (e.g. Wien Fil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correction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K = dK/K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m = dm/m = rel.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z  = dq/q = rel. charge 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 =  px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 =  py/p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 proper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al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rdinate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rdinat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 after element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ion 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 el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first ord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We are not building “random” optical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atrix elements = 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symmetries, e.g. mid-plane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We are not building “random” 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matrix elements = 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cause of symmetries, e.g. mid-plane symmet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rift and a Quadr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reference of TRANSPORT code and formalis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.L. Brown, F. Rothacker, D.C. Carey, and Ch. Iselin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ANSPORT: A computer program for desig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rged particle beam transport systems, SLAC-91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. 2, UC-28 (I/A), also: CERN 80-04 Super Pr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ynchrotron Division, 18 March 1980, Genev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ual plus Appendices available on Webpag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tp://ftp.psi.ch/psi/transport.beam/CERN-80-04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avid. C. Carey, The optics of Charged Particle Beam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87, Hardwood Academic Publ. GmbH, Chur Switzer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matrices of a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rift and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of a ray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ough a system of </a:t>
            </a:r>
            <a:br>
              <a:rPr sz="1100"/>
            </a:b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eam line elemen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initi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a targ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ay at fina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ocation 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6x6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resent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irst optic el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usually a Drif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xn  =  Rn Rn-1 … R0 x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lete system is represented by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ne Matrix  Rsystem   = 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of a ray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ough a system of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eam line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n  =  Rn Rn-1 … R0 x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lete system is represented b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ne Matrix  Rsystem   = 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trix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ollnik, p. 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cusing 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x|a)         Wollni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dx/dQ      physical 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(x|Q)        RAYTR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= R12          TRANSPO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hromatic syst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16 = R26 =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ical interpretation of some TRANSPORT </a:t>
            </a:r>
            <a:br>
              <a:rPr sz="1200"/>
            </a:b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trix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dx/dQ      physical mea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(x|Q)    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R12         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16 = R26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fining a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Ellipse Area  = p(det s)1/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e is constant fo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xed energy &amp; conserva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tention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ace charge effects occur when the particle density is high, so that particles repel each oth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arning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is is a mathematical abstraction of a beam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is your responsibility to verify it applies to your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mittanc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Ellipse Area 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is constant fo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ten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rning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ONE Ray Û  Ellip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ng the s Matrix representing a B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ivalenc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of Transport of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ONE Ray Û  Ellip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ng the s Matrix representing a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The 2-dimensional case ( x, Q 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Area = p(det s)1/2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mittance e = det s is constant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 fixed energy &amp; conservative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forces (Liouville’s Theorem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Note: e shrinks (increases) with acceleration (deceleration);  Dissipative forces: e  increases in gases; electron, stochastic, laser cooling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 dimensional cut x-Q is shown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Real, pos. definite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ymmetric s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-1 =  1/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s22  -s21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-s21  s11 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nverse Matrix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s-1 =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1  0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 0  1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1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how that: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= I (Unity Matrix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2-dim. Coord.vectors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point in phase space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=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 = (x Q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æx ü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èQþ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llipse in Matrix not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X T s-1 X  = 1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Exercise 2: Show that Matrix notation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is equivalent to known Ellipse equation: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s22 x2 - 2s21 x Q + s11Q2 = e2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2-dimensional case ( x, Q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Area = p(det s)1/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mittance e = det s is consta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 fixed energy &amp; conserva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orces (Liouville’s Theore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e shrinks (increases) with acceleration (deceleration);  Dissipative forces: e  increases in gases; electron, stochastic, laser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 dimensional cut x-Q is sh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ymmetric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-1 =  1/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s22  -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-s21  s11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s-1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1  0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 0  1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1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how that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= I (Unity Matrix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 = (x Q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æx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èQ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lipse in Matrix not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X T s-1 X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xercise 2: Show that Matrix notatio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s equivalent to known Ellipse equation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22 x2 - 2s21 x Q + s11Q2 = e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urant-Snyder No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s11 s21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s21 s22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æ  b   -a 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è-a      g 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  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urant-Snyder 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=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s11 s21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s21 s22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notation of the s Matrix Elements, that are used in the Accelerator Literatur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 matrix and the betatron amplitue functions a, b, g or Courant Snyder para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æ  b   -a 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è-a      g 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   e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, references, remarks (4 - 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riving forces (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 &amp; first order formalism (10 - 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 ellipse, emittance, examples (17 - 2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ylor expansion, higher orders (26 - 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er of diagnostics (28 - 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&amp;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st Lecture: 9/30/05, 2:00 – 3:30 pm: Definitions, Formalism, Examp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port of 6-dim s Matri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sider the 6-dim. ray vector in TRANSPORT:                        X = (x, Q, y, F, l, dp/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y X0 from location 0 is transported by a 6 x 6 Matrix R to location 1 by:        X1 = RX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: R maybe a matrix representing a complex system (3) is :             R = Rn Rn-1 … R0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llipsoid in Matrix notation (6), generized to e.g. 6-dim. using s Matrix:                X0 T s0-1 X0  =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serting Unity Matrix  I = RR-1  in equ. (6)   it follows     X0 T (RTRT-1) s0-1 (R-1 R) X0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which we derive            (RX0)T  (Rs0 RT)-1 (RX0)  = 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9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equation of the new ellipsoid after transformation becomes     X1 T s1-1 X1  = 1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ere                                         s1 =  Rs0 R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1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port of 6-dim s Matri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Q, y, F, l, dp/p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 X0 from location 0 is transported by a 6 x 6 Matrix R to location 1 by:        X1 = RX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(3) is :             R = Rn Rn-1 … R0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lipsoid in Matrix notation (6), generized to e.g. 6-dim. using s Matrix:                X0 T s0-1 X0  =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erting Unity Matrix  I = RR-1  in equ. (6)   it follows     X0 T (RTRT-1) s0-1 (R-1 R) X0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rom which we derive            (RX0)T  (Rs0 RT)-1 (RX0)  = 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8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of the new ellipsoid after transformation becomes     X1 T s1-1 X1  = 1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                                        s1 =  Rs0 R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clusion: Knowing the TRANSPORT matrix R that transports one ray through an ion-optical system using  (7) we can now also transport the phase space ellipse describing the initial beam using (10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Drift and focusing Quadrupole,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ing of emittance and accep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s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ansport of rays and phase ellip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a Drift and focusing Quadrupole,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ching of emittance and accept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degr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egrader / target increases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ittance e due to multiple scatter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mittance growth is minimal w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egrader in positioned in a foc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can be seen from the schem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ing of the horizontal x-Th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ack-of-the-envelop discussion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crease of Emittance 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e to degra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egrader / target increases 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due to multiple scatter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growth is minimal wh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egrader in positioned in a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can be seen from the schema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rawing of the horizontal x-Th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ase spac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tuning a quadrupol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ee, p. 55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is an importan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parameter of a beam. It can be measured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(1 + s12  L/ s11 - L g) + (eL)2/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xercise 3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In the accelera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reference book s22  is printed as s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erify which is correc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¶Bz/¶x * l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g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Quadr.  field strength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 eff. field length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 between quadrupole an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 profile monitor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ake minimum 3 measurements of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xmax(g) and determine Emittance e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1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2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tuning a quadr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e, p. 5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is an impor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(1 + s12  L/ s11 - L g) + (eL)2/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rcise 3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acceler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ference book s22  is printed as s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ify which is corr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¶Bz/¶x * l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Quadr. 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 eff. field lengt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 minimum 3 measurement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max(g) and determine Emittance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 e  measurement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y moving viewer metho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The emittance e can also be measured in a drift space as shown below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L1 s12  + L1 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2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 = Distances between viewer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 beam profile monitors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¾½¾¾¾½¾¾¾¾½¾®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L1            L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Viewer  V1         V2             V3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Bea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xmax(V3))2  =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 + 2 (L1 + L2)s12  + (L1 + L2 )2 s2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here s11 = (xmax(V1))2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 = Ö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```````````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s11s22  - (s12) 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Emittance: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iscuss practical aspect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No ellipse no e? Phase space!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3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(14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 e  measuremen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y moving viewer metho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mittance e can also be measured in a drift space as shown below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L1 s12  + L1 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2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¾½¾¾¾½¾¾¾¾½¾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1            L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ewer  V1         V2             V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xmax(V3))2 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 + 2 (L1 + L2)s12  + (L1 + L2 )2 s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s11 = (xmax(V1))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Ö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```````````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11s22  - (s12)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cuss practical asp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ellipse no e? Phase spac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3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aylor expans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(1st order)TRANSPORT Matrix Rn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,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e: Several notations are in use for 6 dim. ray vector &amp; matrix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mark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idplane symmetry of magne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ason for many matrix element = 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pprox. for “well” design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gnets and paraxial beam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code calculates 2nd or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y including Tmno elements explicit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formalism is not suitabl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o calculate higher order ( &gt;2 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   RAYTRAC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Not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nm    =      (n|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1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aylor expan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(1st order)TRANSPORT Matrix Rn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,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mark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idplane symmetry of magne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ason for many matrix element = 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pprox. for “well” design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gnets and paraxial be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code calculates 2nd or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y including Tmno elements explicit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formalism is not suit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o calculate higher order ( &gt;2 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nm    =      (n|m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1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ds of solving the equation of mo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 Determine the TRANSPORT matri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ing the equation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cussion of Diagnostic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probl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ange  &lt; 1  to  &gt; 1012 particles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terference with beam, notably at low energ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st can be very 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solu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iewers, scintillators, quartz with CCD read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ts (movable) Faraday cups (current readou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rps, electronic readout, semi- transpa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lm (permanent record, dosimetry, e.g. in Proton Therap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re chambers (Spectrome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int beam 1012 ® 103  (Cyclotrons: MSU, RCNP, iThemb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Discussion of Diagnostic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ange  &lt; 1  to  &gt; 1012 particles/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int beam 1012 ® 103  (Cyclotrons: MSU, RCNP, iThemba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agnostics in focal plan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f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ypical in focal plane of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rn Spectromete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wo position sensitiv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etectors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orizontal:  X1,  X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ertical:      Y1,  Y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ast plastic scintillator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ticle identific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ime-of-Flig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asurement with IUCF K6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pectrometer illustrates from to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 bottom: focus near, down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ream and upstream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1 detector, respectively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UCF, K600 Spectrome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agnostics in focal plane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f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UCF, K600 Spectrome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 beam aber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ctor X1      X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rays in focal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ctup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-shape in x-Q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xtupole T12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-shape in x-Q pl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2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1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 beam aber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tector X1      X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 rays in focal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 Octupo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S-shape in x-Q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ther Example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xtupole T122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-shape in x-Q plo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1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ipulate charged particles (b+/-, ions, like p,d,a, 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s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&amp; electric analysis/ separation (e.g. St. Geor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of ion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tiv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e charged particles (b+/-, ions, like p,d,a, …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 6*109  people have  - I hope so - happy lives with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enables physicists to explore the unk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physicists using accelerators, beam lines and magnet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r their data) needs some knowledge of ion-opti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of the applications of ion-optics and related top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needs ion-optic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yway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ver 6*109  people have  - I hope so - happy lives withou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oup of accelerator physicists are using it to build machine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y physicists using accelerators, beam lines and magne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lecture series is an introduction to the last group and I will d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ory remark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roduction for physicists  Focus on ion-optical definitions, and tools tha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re useful for physicist at the NSL &amp; future users of St. George recoil separator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ight optics can hardly be discussed without lenses &amp; optical instruments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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s requires knowledge of ion-optical element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alogy between Light Optics and Ion-Optics is useful but limit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on-optical &amp; magnet design tools needed to understand electro-magnet systems.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Ion-optics is not even 100 years old and (still) less intuitive than optics developed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nce several hundred year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alile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scope 1609 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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ptics in Siderus Nuncius 161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istorical remarks:   Rutherford, 1911, discovery of atomic nucl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ory rema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roduction for physicists  Focus on ion-optical definitions, and tools tha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e useful for physicist at the NSL &amp; future users of St. George recoil separato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optics can hardly be discussed without lenses &amp; optical instrumen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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s requires knowledge of ion-optical element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ogy between Light Optics and Ion-Optics is useful but limi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-optical &amp; magnet design tools needed to understand electro-magnet systems.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lescope 1609 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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storical remarks:   Rutherford, 1911, discovery of atomic nucle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Basic tools of the trad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eometry, drawing tools, CAD drafting program (e.g. AutoCad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near Algebra (Matrix calculations), first order ion-optics (e.g. TRANSPOR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igher order ion-optics code to solve equation of motion, (e.g. COSY Infinity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GIOS, RAYTRACE (historic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Electro-magnetic field program (solution of  Maxwell’s Equations)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(e.g. finite element (FE) codes, 2d &amp; 3d: POISSON, TOSCA, MagNet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roperties of incoming charged particles and design function of electro-magnetic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facility, beam, reaction products (e.g. kinematic codes, charge distributions of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heavy ions, energy losses in targe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Many other specialized programs, e.g for accelerator design (e.g. synchrotrons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yclotrons) not covered in this lecure series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Basic tools of the tra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Literature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Optics of Charged Particles, Hermann Wollnik, Academic Press, Orlando,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he Optics of Charged Particle Beams, David.C Carey, Harwood Academic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Publishers, New York 1987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Accelerator Physics, S.Y. Lee, World Scientific Publishing, Singapore, 199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, A Computer Program for Designing Charged Particle Be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Transport Systems, K.L. Brown, D.C. Carey, Ch. Iselin, F. Rotacker,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Report CERN 80-04, Geneva, 19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Computer-Aided Design in Magnetics, D.A. Lowther, P. Silvester, Springer 198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Literat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ons in static or quasi-static electro-magnetic fiel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rentz Forc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q = electric charg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 = magn. induc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 = electric fiel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v = veloc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momentum analysis  the magnetic force is preferred because the force is always perpendicular to B. Therefore v, p and E are constan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ce in magnetic dipole B = const: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  p = q B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   = mv = momentu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= bending radiu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r = magn. rigid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ion acceleration electric forces are used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pole field B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pendicula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paper plan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adius 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bject (size x0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General rule: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caling of magnetic syste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linear region results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the same ion-op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e: Dispersion dx/dp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ed in magnetic analysi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.g. Spectrometers, mag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ors,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+dp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ns in static or quasi-static electro-magnetic fiel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rentz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 = electric char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 = magn. i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 = electric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velo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momentum analysis  the magnetic force is preferred because the force is always perpendicular to B. Therefore v, p and E are consta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ce in magnetic dipole B = const: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p = q B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   = mv = momentu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= bending radiu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 = magn. rigid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ion acceleration electric forces are us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pole field 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pendicul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paper pl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us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bject (size x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ral rul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aling of magnetic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linear region result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same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e: Dispersion dx/d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in magnetic analysi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Spectrometers, mag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parators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+d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BEAM for mathematical formulation of ion-op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eam, what shapes it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its properties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parameters, the long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rays and dis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m line elements, paraxial lin. ap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er orders in spectrome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stem of diagnostic instru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o forget: Atomic charge Q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particles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finition of BEAM for mathematical formulation of ion-op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a beam, what shapes it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do we know its properties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parameters, the long li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rays and distrib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am line elements, paraxial lin. approx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igher orders in spectrome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ystem of diagnostic instru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CAF-4FC7-473B-A4A9-41E135C0F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188-5BFF-44B8-A501-6E951E0C3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CBC3-E787-44F9-B23C-98FFE5CE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986-3BA1-4962-AA91-06DA45E9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8B3C-EF78-4540-8361-1C24A45A6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B9D1-4D7A-4442-8E7B-611065E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04FD-3AC2-4317-B477-BF336455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F8BB-E92A-4FA5-AAE8-8B976A8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1233-6324-4E78-983D-957B46062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0F2DD-35DC-4A29-8E20-4065FDBB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98D2-EE0D-4E57-9CB4-497D7A9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0F1-5A77-49FB-AD7F-CED8E7DF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7705-C77F-4CF4-B7F4-F151F627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C6C97-0534-415A-AF2C-BB89F59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933EB-8334-407F-A666-E7F05F8B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310-3DD0-4531-9930-210B37C5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F21E-E28B-4D30-B771-3181DC6A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9572-F1C6-4ECC-96EB-29E4D6B1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E9E0-166B-46A4-B0B0-C6C3FD2E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C45D-575D-4344-8A98-873EE12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1646-3B98-45C1-85F0-9B41503C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2ADF-2C5A-4571-8FC4-0F673C1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7D30-B7BC-434D-99D1-4FAC260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CAC5-8BB7-42D8-ABD1-8996D98F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FEAD-8881-4DDC-8F06-67F43B438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FF4C-C6D3-4736-9835-6D1E3E7D81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glas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876920" y="22824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Lecture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Rectangle 1028"/>
          <p:cNvSpPr/>
          <p:nvPr/>
        </p:nvSpPr>
        <p:spPr>
          <a:xfrm>
            <a:off x="0" y="2819520"/>
            <a:ext cx="6705720" cy="457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029"/>
          <p:cNvSpPr/>
          <p:nvPr/>
        </p:nvSpPr>
        <p:spPr>
          <a:xfrm>
            <a:off x="0" y="3352680"/>
            <a:ext cx="7467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7/05, 2:00 pm: Ion-optical elements, properties &amp; desig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030"/>
          <p:cNvSpPr/>
          <p:nvPr/>
        </p:nvSpPr>
        <p:spPr>
          <a:xfrm>
            <a:off x="-152280" y="3962520"/>
            <a:ext cx="6933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0/14/05, 2:00 pm: Real World Ion-optical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031"/>
          <p:cNvSpPr/>
          <p:nvPr/>
        </p:nvSpPr>
        <p:spPr>
          <a:xfrm>
            <a:off x="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2/05, 2:00 pm: Separator Syste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032"/>
          <p:cNvSpPr/>
          <p:nvPr/>
        </p:nvSpPr>
        <p:spPr>
          <a:xfrm>
            <a:off x="-152280" y="5486400"/>
            <a:ext cx="9448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12/9/05, 2:00 pm: Demonstration of Codes (TRANSPORT, COSY, MagNet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86200" y="759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RAY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57" name="Picture 3" descr="Beam_parametrization_d"/>
          <p:cNvPicPr/>
          <p:nvPr/>
        </p:nvPicPr>
        <p:blipFill>
          <a:blip r:embed="rId1"/>
          <a:stretch/>
        </p:blipFill>
        <p:spPr>
          <a:xfrm>
            <a:off x="3429000" y="914400"/>
            <a:ext cx="5791320" cy="24415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5640120" y="1295280"/>
            <a:ext cx="131148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-opt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-3600" y="0"/>
            <a:ext cx="339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de TRANSPORT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1, 2,  3,  4, 5,   6  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venient “easy to use” progra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eam lines with paraxial bea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-5760" y="3733920"/>
            <a:ext cx="5574240" cy="23968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: COSY Infinit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, b, l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ed for complex ion-optical systems including sever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ge sta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m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locities (e.g. Wien Fil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order correc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6019920" y="3429000"/>
            <a:ext cx="2819160" cy="24962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K/K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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m/m = rel. energ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z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q/q = rel. charge chan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 =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p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“central ray” proper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7200" y="1676520"/>
            <a:ext cx="25412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 defined in the figure a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dp/p = rel. momentu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 = beam pulse lengt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ll parameters are rel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 “central ray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4495320" y="1981080"/>
            <a:ext cx="94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ntral ra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69640" y="6338880"/>
            <a:ext cx="77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te: Notations in the Literature is not consistent! Sorry, neither will I b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181480" y="1066680"/>
            <a:ext cx="3810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ordinate System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1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62520" y="151920"/>
            <a:ext cx="5029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3" name="Picture 1027" descr="Backup_of_Tailor_matrix_b"/>
          <p:cNvPicPr/>
          <p:nvPr/>
        </p:nvPicPr>
        <p:blipFill>
          <a:blip r:embed="rId1"/>
          <a:stretch/>
        </p:blipFill>
        <p:spPr>
          <a:xfrm>
            <a:off x="304920" y="220968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028"/>
          <p:cNvSpPr/>
          <p:nvPr/>
        </p:nvSpPr>
        <p:spPr>
          <a:xfrm>
            <a:off x="3200400" y="571500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029"/>
          <p:cNvSpPr/>
          <p:nvPr/>
        </p:nvSpPr>
        <p:spPr>
          <a:xfrm>
            <a:off x="533520" y="571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fter element a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30"/>
          <p:cNvSpPr/>
          <p:nvPr/>
        </p:nvSpPr>
        <p:spPr>
          <a:xfrm rot="16200000">
            <a:off x="7491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031"/>
          <p:cNvSpPr/>
          <p:nvPr/>
        </p:nvSpPr>
        <p:spPr>
          <a:xfrm rot="16200000">
            <a:off x="3492360" y="51926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1032"/>
          <p:cNvSpPr/>
          <p:nvPr/>
        </p:nvSpPr>
        <p:spPr>
          <a:xfrm>
            <a:off x="1833480" y="609480"/>
            <a:ext cx="127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first ord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33"/>
          <p:cNvSpPr/>
          <p:nvPr/>
        </p:nvSpPr>
        <p:spPr>
          <a:xfrm rot="5400000">
            <a:off x="2270520" y="1688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034"/>
          <p:cNvSpPr/>
          <p:nvPr/>
        </p:nvSpPr>
        <p:spPr>
          <a:xfrm>
            <a:off x="5181480" y="5257800"/>
            <a:ext cx="2819520" cy="1465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e: We are not building “random” optical ele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atrix elements = 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ause of symmetries, e.g. mid-plane symmet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036"/>
          <p:cNvSpPr/>
          <p:nvPr/>
        </p:nvSpPr>
        <p:spPr>
          <a:xfrm>
            <a:off x="434340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TRANSPORT matrices of a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rift and a Quadrupo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4" name="Picture 3" descr="Matrix_drift_quad"/>
          <p:cNvPicPr/>
          <p:nvPr/>
        </p:nvPicPr>
        <p:blipFill>
          <a:blip r:embed="rId1"/>
          <a:stretch/>
        </p:blipFill>
        <p:spPr>
          <a:xfrm>
            <a:off x="-152280" y="6480"/>
            <a:ext cx="4344840" cy="68515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4257000" y="4392720"/>
            <a:ext cx="4140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reference of TRANSPORT code and formalism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.L. Brown, F. Rothacker, D.C. Carey, and Ch. Iselin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: A computer program for desig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d particle beam transport systems, SLAC-91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. 2, UC-28 (I/A), also: CERN 80-04 Super Prot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nchrotron Division, 18 March 1980, Geneva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nual plus Appendices available on Webpag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tp://ftp.psi.ch/psi/transport.beam/CERN-80-04/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vid. C. Carey, The optics of Charged Particle Beam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87, Hardwood Academic Publ. GmbH, Chur Switzerla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724280" y="-360"/>
            <a:ext cx="4572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ransport of a ray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hough a system of 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beam line elemen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Text Box 1028"/>
          <p:cNvSpPr/>
          <p:nvPr/>
        </p:nvSpPr>
        <p:spPr>
          <a:xfrm>
            <a:off x="3048120" y="3581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init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e.g. a targe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029"/>
          <p:cNvSpPr/>
          <p:nvPr/>
        </p:nvSpPr>
        <p:spPr>
          <a:xfrm>
            <a:off x="533520" y="3733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ay at fi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ocation 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030"/>
          <p:cNvSpPr/>
          <p:nvPr/>
        </p:nvSpPr>
        <p:spPr>
          <a:xfrm rot="16200000">
            <a:off x="825120" y="3287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1031"/>
          <p:cNvSpPr/>
          <p:nvPr/>
        </p:nvSpPr>
        <p:spPr>
          <a:xfrm rot="16200000">
            <a:off x="3416040" y="31352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1032"/>
          <p:cNvSpPr/>
          <p:nvPr/>
        </p:nvSpPr>
        <p:spPr>
          <a:xfrm>
            <a:off x="2362320" y="1066680"/>
            <a:ext cx="175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6x6 Matri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epresent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irst optic el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usually a Drif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1033"/>
          <p:cNvSpPr/>
          <p:nvPr/>
        </p:nvSpPr>
        <p:spPr>
          <a:xfrm rot="5400000">
            <a:off x="2956320" y="2221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1035"/>
          <p:cNvSpPr/>
          <p:nvPr/>
        </p:nvSpPr>
        <p:spPr>
          <a:xfrm>
            <a:off x="883800" y="2666880"/>
            <a:ext cx="2846880" cy="482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36"/>
          <p:cNvSpPr/>
          <p:nvPr/>
        </p:nvSpPr>
        <p:spPr>
          <a:xfrm>
            <a:off x="974880" y="4689360"/>
            <a:ext cx="4566960" cy="899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system is represen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trix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system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… R</a:t>
            </a:r>
            <a:r>
              <a:rPr b="0" lang="en-US" sz="2400" spc="-1" strike="noStrike" baseline="-16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039"/>
          <p:cNvSpPr/>
          <p:nvPr/>
        </p:nvSpPr>
        <p:spPr>
          <a:xfrm>
            <a:off x="41148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041"/>
          <p:cNvSpPr/>
          <p:nvPr/>
        </p:nvSpPr>
        <p:spPr>
          <a:xfrm>
            <a:off x="6095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76920" y="228600"/>
            <a:ext cx="403848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Geometrical interpretation of some TRANSPORT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matrix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40640" y="171468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ollnik, p. 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-152280" y="0"/>
            <a:ext cx="488304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"/>
          <p:cNvPicPr/>
          <p:nvPr/>
        </p:nvPicPr>
        <p:blipFill>
          <a:blip r:embed="rId2"/>
          <a:stretch/>
        </p:blipFill>
        <p:spPr>
          <a:xfrm>
            <a:off x="3124080" y="5410080"/>
            <a:ext cx="6019920" cy="13129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7"/>
          <p:cNvSpPr/>
          <p:nvPr/>
        </p:nvSpPr>
        <p:spPr>
          <a:xfrm>
            <a:off x="4876920" y="3429000"/>
            <a:ext cx="3124080" cy="17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cusing Fun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x|a)         Wollni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dx/d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physical mea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(x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)        RAYTR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TRANSPOR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857280" y="1828800"/>
            <a:ext cx="2078280" cy="6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hromatic system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26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60948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Defining a BEAM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5723640" y="149400"/>
            <a:ext cx="30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Ellipse Area  =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5716440" y="2209680"/>
            <a:ext cx="2733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for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5715000" y="3124080"/>
            <a:ext cx="342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7"/>
          <p:cNvSpPr/>
          <p:nvPr/>
        </p:nvSpPr>
        <p:spPr>
          <a:xfrm>
            <a:off x="152280" y="5410080"/>
            <a:ext cx="7539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tten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ace charge effects occur when the particle density is high, so that particles repel each o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8"/>
          <p:cNvSpPr/>
          <p:nvPr/>
        </p:nvSpPr>
        <p:spPr>
          <a:xfrm>
            <a:off x="294480" y="3962520"/>
            <a:ext cx="7020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Warning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is a mathematical abstraction of a beam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your responsibility to verify it applies to your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2671560" y="320040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5486400" y="12952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6229800" y="13716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2"/>
          <p:cNvSpPr/>
          <p:nvPr/>
        </p:nvSpPr>
        <p:spPr>
          <a:xfrm>
            <a:off x="6172200" y="129528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6477480" y="76212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itt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5"/>
          <p:cNvSpPr/>
          <p:nvPr/>
        </p:nvSpPr>
        <p:spPr>
          <a:xfrm>
            <a:off x="8458200" y="1371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6858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quivalen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of Transport of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ONE Ray </a:t>
            </a:r>
            <a:r>
              <a:rPr b="0" lang="en-US" sz="4400" spc="-1" strike="noStrike">
                <a:solidFill>
                  <a:srgbClr val="ffcc66"/>
                </a:solidFill>
                <a:latin typeface="Symbol"/>
                <a:ea typeface="Symbol"/>
              </a:rPr>
              <a:t>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llips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8600" y="510552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efining the 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Matrix representing a B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0"/>
          <p:cNvSpPr/>
          <p:nvPr/>
        </p:nvSpPr>
        <p:spPr>
          <a:xfrm>
            <a:off x="73080" y="5943600"/>
            <a:ext cx="496584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2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152280" y="914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he 2-dimensional case ( x,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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5961240" y="225360"/>
            <a:ext cx="236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lipse Area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1/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5946480" y="685800"/>
            <a:ext cx="302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de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constant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fixed energy &amp; conservat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ces (Liouville’s Theore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5943600" y="1587600"/>
            <a:ext cx="32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hrinks (increases) with acceleration (deceleration);  Dissipative forces: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creases in gases; electron, stochastic, laser coo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9"/>
          <p:cNvSpPr/>
          <p:nvPr/>
        </p:nvSpPr>
        <p:spPr>
          <a:xfrm>
            <a:off x="2595240" y="3505320"/>
            <a:ext cx="27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2 dimensional cut x-</a:t>
            </a:r>
            <a:r>
              <a:rPr b="0" lang="en-US" sz="1600" spc="-1" strike="noStrike">
                <a:solidFill>
                  <a:srgbClr val="ff0033"/>
                </a:solidFill>
                <a:latin typeface="Symbol"/>
                <a:ea typeface="Symbol"/>
              </a:rPr>
              <a:t></a:t>
            </a:r>
            <a:r>
              <a:rPr b="0" lang="en-US" sz="1600" spc="-1" strike="noStrike">
                <a:solidFill>
                  <a:srgbClr val="ff0033"/>
                </a:solidFill>
                <a:latin typeface="Times New Roman"/>
              </a:rPr>
              <a:t> is show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39960" y="41911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1"/>
          <p:cNvSpPr/>
          <p:nvPr/>
        </p:nvSpPr>
        <p:spPr>
          <a:xfrm>
            <a:off x="587520" y="403848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131920" y="408780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al, pos. defi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ymmetric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Matri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520" y="51814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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Text Box 15"/>
          <p:cNvSpPr/>
          <p:nvPr/>
        </p:nvSpPr>
        <p:spPr>
          <a:xfrm>
            <a:off x="1343880" y="5029200"/>
            <a:ext cx="19576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3048480" y="5254560"/>
            <a:ext cx="15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verse Matri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1139400" y="6095880"/>
            <a:ext cx="12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Text Box 18"/>
          <p:cNvSpPr/>
          <p:nvPr/>
        </p:nvSpPr>
        <p:spPr>
          <a:xfrm>
            <a:off x="1971360" y="5943600"/>
            <a:ext cx="1437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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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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76320" y="5791320"/>
            <a:ext cx="1206360" cy="734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 1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 Box 21"/>
          <p:cNvSpPr/>
          <p:nvPr/>
        </p:nvSpPr>
        <p:spPr>
          <a:xfrm>
            <a:off x="3048120" y="609588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Unity Matri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Text Box 22"/>
          <p:cNvSpPr/>
          <p:nvPr/>
        </p:nvSpPr>
        <p:spPr>
          <a:xfrm>
            <a:off x="6018840" y="3048120"/>
            <a:ext cx="21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-dim. Coord.vec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point in phase spa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5716800" y="3886200"/>
            <a:ext cx="6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Text Box 25"/>
          <p:cNvSpPr/>
          <p:nvPr/>
        </p:nvSpPr>
        <p:spPr>
          <a:xfrm>
            <a:off x="7407000" y="3886200"/>
            <a:ext cx="15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(x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Text Box 26"/>
          <p:cNvSpPr/>
          <p:nvPr/>
        </p:nvSpPr>
        <p:spPr>
          <a:xfrm>
            <a:off x="6219000" y="373392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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Text Box 27"/>
          <p:cNvSpPr/>
          <p:nvPr/>
        </p:nvSpPr>
        <p:spPr>
          <a:xfrm>
            <a:off x="5481720" y="4572000"/>
            <a:ext cx="29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lipse in Matrix notation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Text Box 28"/>
          <p:cNvSpPr/>
          <p:nvPr/>
        </p:nvSpPr>
        <p:spPr>
          <a:xfrm>
            <a:off x="5059080" y="5738760"/>
            <a:ext cx="4146840" cy="1027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ercise 2: Show that Matrix nota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equivalent to known Ellipse equation: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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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Text Box 29"/>
          <p:cNvSpPr/>
          <p:nvPr/>
        </p:nvSpPr>
        <p:spPr>
          <a:xfrm>
            <a:off x="8305920" y="4952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3886200" y="396540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5486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Courant-Snyder Nota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95436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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59120" y="2590920"/>
            <a:ext cx="1703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6"/>
          <p:cNvSpPr/>
          <p:nvPr/>
        </p:nvSpPr>
        <p:spPr>
          <a:xfrm>
            <a:off x="581040" y="723960"/>
            <a:ext cx="8202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their famous “Theory of the Alternating Synchrotron” Courant and Snyder used 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fferent notation of th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Matrix Elements, that are used in the Accelerator Literatur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you r future venture into accelerator physics here is the relationship between 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atrix and the betatron amplitue function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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or Courant Snyder paramet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7"/>
          <p:cNvSpPr/>
          <p:nvPr/>
        </p:nvSpPr>
        <p:spPr>
          <a:xfrm>
            <a:off x="4022280" y="2590920"/>
            <a:ext cx="2052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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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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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Text Box 28"/>
          <p:cNvSpPr/>
          <p:nvPr/>
        </p:nvSpPr>
        <p:spPr>
          <a:xfrm>
            <a:off x="3317040" y="2743200"/>
            <a:ext cx="14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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Lec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06720" y="3657600"/>
            <a:ext cx="647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tivation, references, remarks (4 -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driving forces 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tions &amp; first order formalism (10 - 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hase space ellipse, emittance, examples (17 - 2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ylor expansion, higher orders (26 - 2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power of diagnostics (28 - 3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 &amp;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289548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cc66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 Lecture: 9/30/05, 2:00 – 3:30 pm: Definitions, Formalism, Examp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Transport of 6-dim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Matrix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9" name="Text Box 26"/>
          <p:cNvSpPr/>
          <p:nvPr/>
        </p:nvSpPr>
        <p:spPr>
          <a:xfrm>
            <a:off x="51480" y="838080"/>
            <a:ext cx="84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nsider the 6-dim. ray vector in TRANSPORT:                        X = (x,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y,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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, dp/p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Text Box 27"/>
          <p:cNvSpPr/>
          <p:nvPr/>
        </p:nvSpPr>
        <p:spPr>
          <a:xfrm>
            <a:off x="152280" y="1295280"/>
            <a:ext cx="89917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y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from location 0 is transported by a 6 x 6 Matrix R to location 1 by:        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= RX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752480"/>
            <a:ext cx="8763120" cy="3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R maybe a matrix representing a complex system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3)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:             R =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… R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0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29"/>
          <p:cNvSpPr/>
          <p:nvPr/>
        </p:nvSpPr>
        <p:spPr>
          <a:xfrm>
            <a:off x="152280" y="2286000"/>
            <a:ext cx="85345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Ellipsoid in Matrix notation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, generized to e.g. 6-dim. using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Matrix:           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152280" y="2895480"/>
            <a:ext cx="8305920" cy="9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serting Unity Matrix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= R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equ. </a:t>
            </a:r>
            <a:r>
              <a:rPr b="0" lang="en-US" sz="1800" spc="-1" strike="noStrike">
                <a:solidFill>
                  <a:srgbClr val="ff3300"/>
                </a:solidFill>
                <a:latin typeface="Arial Black"/>
              </a:rPr>
              <a:t>(6)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it follows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-1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)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rom which we derive           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(R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(R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)  = 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85345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84582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4"/>
          <p:cNvSpPr/>
          <p:nvPr/>
        </p:nvSpPr>
        <p:spPr>
          <a:xfrm>
            <a:off x="845820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228600" y="3809880"/>
            <a:ext cx="8305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quation of the </a:t>
            </a: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new ellipsoid after transformation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ecom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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X</a:t>
            </a:r>
            <a:r>
              <a:rPr b="0" lang="en-US" sz="16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= 1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here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=  R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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30000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6"/>
          <p:cNvSpPr/>
          <p:nvPr/>
        </p:nvSpPr>
        <p:spPr>
          <a:xfrm>
            <a:off x="83059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37"/>
          <p:cNvSpPr/>
          <p:nvPr/>
        </p:nvSpPr>
        <p:spPr>
          <a:xfrm>
            <a:off x="8458200" y="220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38"/>
          <p:cNvSpPr/>
          <p:nvPr/>
        </p:nvSpPr>
        <p:spPr>
          <a:xfrm>
            <a:off x="152280" y="5029200"/>
            <a:ext cx="8839440" cy="1678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lusion: Knowing the TRANSPORT matrix R that transports one ray through an ion-optical syste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7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now also transport the phase space ellipse describing the initial beam us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(10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Нижний колонтитул 1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220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transport of rays and phase ellipses</a:t>
            </a: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in a Drift and focusing Quadrupole, Lens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73" name="Picture 3" descr="Ellipse_ray-a"/>
          <p:cNvPicPr/>
          <p:nvPr/>
        </p:nvPicPr>
        <p:blipFill>
          <a:blip r:embed="rId1"/>
          <a:stretch/>
        </p:blipFill>
        <p:spPr>
          <a:xfrm>
            <a:off x="-152280" y="1541520"/>
            <a:ext cx="6095880" cy="53164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Ellipse_ray_b"/>
          <p:cNvPicPr/>
          <p:nvPr/>
        </p:nvPicPr>
        <p:blipFill>
          <a:blip r:embed="rId2"/>
          <a:stretch/>
        </p:blipFill>
        <p:spPr>
          <a:xfrm>
            <a:off x="5599080" y="1523880"/>
            <a:ext cx="3544920" cy="144792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Ellipse_ray_c"/>
          <p:cNvPicPr/>
          <p:nvPr/>
        </p:nvPicPr>
        <p:blipFill>
          <a:blip r:embed="rId3"/>
          <a:stretch/>
        </p:blipFill>
        <p:spPr>
          <a:xfrm>
            <a:off x="5943600" y="2971800"/>
            <a:ext cx="3200400" cy="1905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6" descr="Ellipse_ray_d"/>
          <p:cNvPicPr/>
          <p:nvPr/>
        </p:nvPicPr>
        <p:blipFill>
          <a:blip r:embed="rId4"/>
          <a:stretch/>
        </p:blipFill>
        <p:spPr>
          <a:xfrm>
            <a:off x="5943600" y="4876920"/>
            <a:ext cx="320040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7"/>
          <p:cNvSpPr/>
          <p:nvPr/>
        </p:nvSpPr>
        <p:spPr>
          <a:xfrm>
            <a:off x="914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648320" y="3733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2136240" y="6324480"/>
            <a:ext cx="365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atching of emittance and accep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1143360" y="358128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5029560" y="3657600"/>
            <a:ext cx="662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ns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564520" y="28195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382680" y="3505320"/>
            <a:ext cx="726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34120" y="152280"/>
            <a:ext cx="350496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Increase of Emittance </a:t>
            </a:r>
            <a:r>
              <a:rPr b="0" lang="en-US" sz="2400" spc="-1" strike="noStrike">
                <a:solidFill>
                  <a:srgbClr val="ffcc66"/>
                </a:solidFill>
                <a:latin typeface="UniversalMath1 BT"/>
                <a:ea typeface="UniversalMath1 BT"/>
              </a:rPr>
              <a:t>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due to degrad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86" name="Picture 3" descr="Ellipse_increase"/>
          <p:cNvPicPr/>
          <p:nvPr/>
        </p:nvPicPr>
        <p:blipFill>
          <a:blip r:embed="rId1"/>
          <a:stretch/>
        </p:blipFill>
        <p:spPr>
          <a:xfrm>
            <a:off x="0" y="1143000"/>
            <a:ext cx="5483160" cy="5867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4"/>
          <p:cNvSpPr/>
          <p:nvPr/>
        </p:nvSpPr>
        <p:spPr>
          <a:xfrm>
            <a:off x="1678320" y="1295280"/>
            <a:ext cx="80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5507640" y="2286000"/>
            <a:ext cx="36342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degrader / target increases th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ittance </a:t>
            </a:r>
            <a:r>
              <a:rPr b="0" lang="en-US" sz="1800" spc="-1" strike="noStrike">
                <a:solidFill>
                  <a:srgbClr val="ffffff"/>
                </a:solidFill>
                <a:latin typeface="UniversalMath1 BT"/>
                <a:ea typeface="UniversalMath1 BT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ue to multiple scattering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mittance growth is minimal wh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degrader in positioned in a foc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 can be seen from the schemat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ing of the horizontal x-Thet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hase space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663880" y="1143000"/>
            <a:ext cx="35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or back-of-the-envelop discussions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tuning a quadrupol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2" name="Text Box 1027"/>
          <p:cNvSpPr/>
          <p:nvPr/>
        </p:nvSpPr>
        <p:spPr>
          <a:xfrm>
            <a:off x="687960" y="11430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e, p. 5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1028"/>
          <p:cNvSpPr/>
          <p:nvPr/>
        </p:nvSpPr>
        <p:spPr>
          <a:xfrm>
            <a:off x="5943600" y="1143000"/>
            <a:ext cx="32004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is an import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ameter of a beam. It can be measured as shown below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1029" descr="Beam_parametrization_b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152280" y="0"/>
            <a:ext cx="5257800" cy="28926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030"/>
          <p:cNvSpPr/>
          <p:nvPr/>
        </p:nvSpPr>
        <p:spPr>
          <a:xfrm>
            <a:off x="1216440" y="3124080"/>
            <a:ext cx="543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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/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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g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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1031"/>
          <p:cNvSpPr/>
          <p:nvPr/>
        </p:nvSpPr>
        <p:spPr>
          <a:xfrm>
            <a:off x="485640" y="3200400"/>
            <a:ext cx="8524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032"/>
          <p:cNvSpPr/>
          <p:nvPr/>
        </p:nvSpPr>
        <p:spPr>
          <a:xfrm>
            <a:off x="6248520" y="4343400"/>
            <a:ext cx="2743200" cy="22996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rcise 3</a:t>
            </a: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e accele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erence book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printed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 baseline="-16000">
                <a:solidFill>
                  <a:srgbClr val="000000"/>
                </a:solidFill>
                <a:latin typeface="Symbol"/>
                <a:ea typeface="Symbol"/>
              </a:rPr>
              <a:t>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y which is correc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Text Box 1033"/>
          <p:cNvSpPr/>
          <p:nvPr/>
        </p:nvSpPr>
        <p:spPr>
          <a:xfrm>
            <a:off x="1143000" y="3809880"/>
            <a:ext cx="207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z/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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x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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1034"/>
          <p:cNvSpPr/>
          <p:nvPr/>
        </p:nvSpPr>
        <p:spPr>
          <a:xfrm>
            <a:off x="382320" y="3962520"/>
            <a:ext cx="5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 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035"/>
          <p:cNvSpPr/>
          <p:nvPr/>
        </p:nvSpPr>
        <p:spPr>
          <a:xfrm>
            <a:off x="3042720" y="3886200"/>
            <a:ext cx="24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Quadr.  field strengt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=  eff. field leng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1036"/>
          <p:cNvSpPr/>
          <p:nvPr/>
        </p:nvSpPr>
        <p:spPr>
          <a:xfrm>
            <a:off x="45396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 between quadrupole 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profile moni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1037"/>
          <p:cNvSpPr/>
          <p:nvPr/>
        </p:nvSpPr>
        <p:spPr>
          <a:xfrm>
            <a:off x="470520" y="5715000"/>
            <a:ext cx="4515120" cy="860760"/>
          </a:xfrm>
          <a:prstGeom prst="rect">
            <a:avLst/>
          </a:prstGeom>
          <a:solidFill>
            <a:srgbClr val="ffcc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minimum 3 measurement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g) and determine Emitt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038"/>
          <p:cNvSpPr/>
          <p:nvPr/>
        </p:nvSpPr>
        <p:spPr>
          <a:xfrm>
            <a:off x="640080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1039"/>
          <p:cNvSpPr/>
          <p:nvPr/>
        </p:nvSpPr>
        <p:spPr>
          <a:xfrm>
            <a:off x="5562720" y="3962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28840" y="151920"/>
            <a:ext cx="4267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Emittance </a:t>
            </a:r>
            <a:r>
              <a:rPr b="0" lang="en-US" sz="28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 measurement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by moving viewer method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Text Box 1028"/>
          <p:cNvSpPr/>
          <p:nvPr/>
        </p:nvSpPr>
        <p:spPr>
          <a:xfrm>
            <a:off x="6248520" y="1143000"/>
            <a:ext cx="27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emittance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can also be measured in a drift space as shown below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Text Box 1030"/>
          <p:cNvSpPr/>
          <p:nvPr/>
        </p:nvSpPr>
        <p:spPr>
          <a:xfrm>
            <a:off x="1649520" y="3429000"/>
            <a:ext cx="380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031"/>
          <p:cNvSpPr/>
          <p:nvPr/>
        </p:nvSpPr>
        <p:spPr>
          <a:xfrm>
            <a:off x="264600" y="350532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2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Text Box 1036"/>
          <p:cNvSpPr/>
          <p:nvPr/>
        </p:nvSpPr>
        <p:spPr>
          <a:xfrm>
            <a:off x="302760" y="2133720"/>
            <a:ext cx="399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 = Distances between view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 beam profile monitor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1038"/>
          <p:cNvSpPr/>
          <p:nvPr/>
        </p:nvSpPr>
        <p:spPr>
          <a:xfrm>
            <a:off x="685800" y="10666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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039"/>
          <p:cNvSpPr/>
          <p:nvPr/>
        </p:nvSpPr>
        <p:spPr>
          <a:xfrm>
            <a:off x="1614960" y="1523880"/>
            <a:ext cx="1720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1040"/>
          <p:cNvSpPr/>
          <p:nvPr/>
        </p:nvSpPr>
        <p:spPr>
          <a:xfrm>
            <a:off x="155520" y="53352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V1         V2             V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1041"/>
          <p:cNvSpPr/>
          <p:nvPr/>
        </p:nvSpPr>
        <p:spPr>
          <a:xfrm>
            <a:off x="61200" y="1104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042"/>
          <p:cNvSpPr/>
          <p:nvPr/>
        </p:nvSpPr>
        <p:spPr>
          <a:xfrm>
            <a:off x="264600" y="4267080"/>
            <a:ext cx="1672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3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43"/>
          <p:cNvSpPr/>
          <p:nvPr/>
        </p:nvSpPr>
        <p:spPr>
          <a:xfrm>
            <a:off x="1981080" y="4267080"/>
            <a:ext cx="5029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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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+ L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045"/>
          <p:cNvSpPr/>
          <p:nvPr/>
        </p:nvSpPr>
        <p:spPr>
          <a:xfrm>
            <a:off x="426240" y="4946760"/>
            <a:ext cx="29635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16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US" sz="2400" spc="-1" strike="noStrike" baseline="-20000">
                <a:solidFill>
                  <a:srgbClr val="ffffff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V1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046"/>
          <p:cNvSpPr/>
          <p:nvPr/>
        </p:nvSpPr>
        <p:spPr>
          <a:xfrm>
            <a:off x="2057400" y="566748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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Text Box 1047"/>
          <p:cNvSpPr/>
          <p:nvPr/>
        </p:nvSpPr>
        <p:spPr>
          <a:xfrm>
            <a:off x="2743200" y="5654520"/>
            <a:ext cx="201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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Text Box 1048"/>
          <p:cNvSpPr/>
          <p:nvPr/>
        </p:nvSpPr>
        <p:spPr>
          <a:xfrm>
            <a:off x="2877120" y="5715000"/>
            <a:ext cx="2069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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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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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049"/>
          <p:cNvSpPr/>
          <p:nvPr/>
        </p:nvSpPr>
        <p:spPr>
          <a:xfrm>
            <a:off x="438840" y="583236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itt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1050"/>
          <p:cNvSpPr/>
          <p:nvPr/>
        </p:nvSpPr>
        <p:spPr>
          <a:xfrm>
            <a:off x="5347080" y="5715000"/>
            <a:ext cx="2896560" cy="642600"/>
          </a:xfrm>
          <a:prstGeom prst="rect">
            <a:avLst/>
          </a:prstGeom>
          <a:solidFill>
            <a:srgbClr val="ffcc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 practical aspe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ellipse n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Phase spac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1051"/>
          <p:cNvSpPr/>
          <p:nvPr/>
        </p:nvSpPr>
        <p:spPr>
          <a:xfrm>
            <a:off x="5867280" y="3429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052"/>
          <p:cNvSpPr/>
          <p:nvPr/>
        </p:nvSpPr>
        <p:spPr>
          <a:xfrm>
            <a:off x="685800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Нижний колонтитул 2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27636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aylor expansion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27" name="Picture 1027" descr="Tailor_matrix_a"/>
          <p:cNvPicPr/>
          <p:nvPr/>
        </p:nvPicPr>
        <p:blipFill>
          <a:blip r:embed="rId1"/>
          <a:stretch/>
        </p:blipFill>
        <p:spPr>
          <a:xfrm>
            <a:off x="0" y="0"/>
            <a:ext cx="5413320" cy="3137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028" descr="Backup_of_Tailor_matrix_b"/>
          <p:cNvPicPr/>
          <p:nvPr/>
        </p:nvPicPr>
        <p:blipFill>
          <a:blip r:embed="rId2"/>
          <a:stretch/>
        </p:blipFill>
        <p:spPr>
          <a:xfrm>
            <a:off x="4343400" y="3828960"/>
            <a:ext cx="4800600" cy="30290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1029"/>
          <p:cNvSpPr/>
          <p:nvPr/>
        </p:nvSpPr>
        <p:spPr>
          <a:xfrm>
            <a:off x="4524480" y="3276720"/>
            <a:ext cx="442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(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)TRANSPORT Matrix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031"/>
          <p:cNvSpPr/>
          <p:nvPr/>
        </p:nvSpPr>
        <p:spPr>
          <a:xfrm>
            <a:off x="4479840" y="43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ypoUpright BT"/>
                <a:ea typeface="MS Gothic"/>
              </a:rPr>
              <a:t>,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Text Box 1032"/>
          <p:cNvSpPr/>
          <p:nvPr/>
        </p:nvSpPr>
        <p:spPr>
          <a:xfrm>
            <a:off x="5410080" y="7621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te: Several notations are in use for 6 dim. ray vector &amp; matrix element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Text Box 1030"/>
          <p:cNvSpPr/>
          <p:nvPr/>
        </p:nvSpPr>
        <p:spPr>
          <a:xfrm>
            <a:off x="22320" y="3962520"/>
            <a:ext cx="428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mark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dplane symmetry of magn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ason for many matrix element = 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ar approx. for “well” design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gnets and paraxial beam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code calculates 2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ord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y including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n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elements explicit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 formalism is not suitab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calculate higher order ( &gt;2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033"/>
          <p:cNvSpPr/>
          <p:nvPr/>
        </p:nvSpPr>
        <p:spPr>
          <a:xfrm>
            <a:off x="6325560" y="1905120"/>
            <a:ext cx="265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RANSPORT    RAYTR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1034"/>
          <p:cNvSpPr/>
          <p:nvPr/>
        </p:nvSpPr>
        <p:spPr>
          <a:xfrm>
            <a:off x="6789960" y="1523880"/>
            <a:ext cx="18694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US" sz="2000" spc="-1" strike="noStrike" baseline="-16000">
                <a:solidFill>
                  <a:srgbClr val="ffffff"/>
                </a:solidFill>
                <a:latin typeface="Times New Roman"/>
              </a:rPr>
              <a:t>n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=      (n|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1035"/>
          <p:cNvSpPr/>
          <p:nvPr/>
        </p:nvSpPr>
        <p:spPr>
          <a:xfrm>
            <a:off x="4572000" y="990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23920" y="304920"/>
            <a:ext cx="4038840" cy="12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Solving the equation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of Motion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5241960" y="20908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9" name="Picture 6" descr="Beam_parametrization_e"/>
          <p:cNvPicPr/>
          <p:nvPr/>
        </p:nvPicPr>
        <p:blipFill>
          <a:blip r:embed="rId1"/>
          <a:stretch/>
        </p:blipFill>
        <p:spPr>
          <a:xfrm>
            <a:off x="152280" y="685800"/>
            <a:ext cx="3100680" cy="126216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7"/>
          <p:cNvSpPr/>
          <p:nvPr/>
        </p:nvSpPr>
        <p:spPr>
          <a:xfrm>
            <a:off x="304920" y="2438280"/>
            <a:ext cx="510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thods of solving the equation of motion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1) Determine the TRANSPORT matri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2) Code RAYTRACE slices the system in small sections along the z-axis and integrates numerically the particle ray through the syste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3) Code COSY Infinity uses Differential Algebraic techniques to arbitrary orders using matrix representation for fast calcul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Text Box 8"/>
          <p:cNvSpPr/>
          <p:nvPr/>
        </p:nvSpPr>
        <p:spPr>
          <a:xfrm>
            <a:off x="3429000" y="1143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352320" y="151920"/>
            <a:ext cx="57913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Discussion of Diagnostic Element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228600" y="914400"/>
            <a:ext cx="630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problem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ange  &lt; 1  to  &gt;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s/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terference with beam, notably at low energi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st can be very high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gnal may not represent beam properties (e.g. blind viewer spo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281520" y="3124080"/>
            <a:ext cx="5931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 solu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iewers, scintillators, quartz with CCD readou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lits (movable) Faraday cups (current readou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arps, electronic readout, semi- transpar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lm (permanent record, dosimetry, e.g. in Proton Therap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ire chambers (Spectromet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int beam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12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Times New Roman"/>
              </a:rPr>
              <a:t>3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(Cyclotrons: MSU, RCNP, iThemb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638320" y="151920"/>
            <a:ext cx="35053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Diagnostics in focal plane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f spectromet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8" name="Picture 3" descr="K600_focus"/>
          <p:cNvPicPr/>
          <p:nvPr/>
        </p:nvPicPr>
        <p:blipFill>
          <a:blip r:embed="rId1"/>
          <a:stretch/>
        </p:blipFill>
        <p:spPr>
          <a:xfrm>
            <a:off x="0" y="0"/>
            <a:ext cx="538632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4"/>
          <p:cNvSpPr/>
          <p:nvPr/>
        </p:nvSpPr>
        <p:spPr>
          <a:xfrm>
            <a:off x="5943600" y="1371600"/>
            <a:ext cx="28195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ypical in focal plane of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dern Spectromete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wo position sensiti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etectors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orizontal:  X1,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Vertical:      Y1,  Y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ast plastic scintillators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ticle ident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ime-of-Fligh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5560200" y="5105520"/>
            <a:ext cx="320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asurement with IUCF K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pectrometer illustrates from t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o bottom: focus near, dow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ream and upstream of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X1 detector, respectivel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2976840" y="380880"/>
            <a:ext cx="232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IUCF, K600 Spectrome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971800" y="151920"/>
            <a:ext cx="6019920" cy="63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Higher order beam aberration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54" name="Picture 3" descr="K600_higher_order"/>
          <p:cNvPicPr/>
          <p:nvPr/>
        </p:nvPicPr>
        <p:blipFill>
          <a:blip r:embed="rId1"/>
          <a:stretch/>
        </p:blipFill>
        <p:spPr>
          <a:xfrm>
            <a:off x="0" y="1689120"/>
            <a:ext cx="6138720" cy="5168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Oct_aberr"/>
          <p:cNvPicPr/>
          <p:nvPr/>
        </p:nvPicPr>
        <p:blipFill>
          <a:blip r:embed="rId2"/>
          <a:stretch/>
        </p:blipFill>
        <p:spPr>
          <a:xfrm>
            <a:off x="6172200" y="1676520"/>
            <a:ext cx="2816280" cy="119196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5"/>
          <p:cNvSpPr/>
          <p:nvPr/>
        </p:nvSpPr>
        <p:spPr>
          <a:xfrm>
            <a:off x="6172920" y="289548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 X1      X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6404040" y="114300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 rays in focal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6249960" y="1752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8"/>
          <p:cNvSpPr/>
          <p:nvPr/>
        </p:nvSpPr>
        <p:spPr>
          <a:xfrm>
            <a:off x="6174000" y="2133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3659400" y="4038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11"/>
          <p:cNvSpPr/>
          <p:nvPr/>
        </p:nvSpPr>
        <p:spPr>
          <a:xfrm>
            <a:off x="2897280" y="4572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33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2"/>
          <p:cNvSpPr/>
          <p:nvPr/>
        </p:nvSpPr>
        <p:spPr>
          <a:xfrm>
            <a:off x="3735360" y="51055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3"/>
          <p:cNvSpPr/>
          <p:nvPr/>
        </p:nvSpPr>
        <p:spPr>
          <a:xfrm>
            <a:off x="1527840" y="83808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Octup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S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a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6248520" y="5334120"/>
            <a:ext cx="220968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Example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xtupole T</a:t>
            </a:r>
            <a:r>
              <a:rPr b="0" lang="en-US" sz="1800" spc="-1" strike="noStrike" baseline="-16000">
                <a:solidFill>
                  <a:srgbClr val="ffffff"/>
                </a:solidFill>
                <a:latin typeface="Arial"/>
              </a:rPr>
              <a:t>12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-shape in x-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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plo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15"/>
          <p:cNvSpPr/>
          <p:nvPr/>
        </p:nvSpPr>
        <p:spPr>
          <a:xfrm>
            <a:off x="6249960" y="25146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3505320" y="3733920"/>
            <a:ext cx="70164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2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2133720" y="3809880"/>
            <a:ext cx="685800" cy="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16000">
                <a:solidFill>
                  <a:srgbClr val="000000"/>
                </a:solidFill>
                <a:latin typeface="Times New Roman"/>
              </a:rPr>
              <a:t>12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Нижний колонтитул 1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2520" y="228600"/>
            <a:ext cx="39625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Text Box 1027"/>
          <p:cNvSpPr/>
          <p:nvPr/>
        </p:nvSpPr>
        <p:spPr>
          <a:xfrm>
            <a:off x="228600" y="3962520"/>
            <a:ext cx="7365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ipulate charged particles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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ion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like p,d,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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am lines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gnetic &amp; electric analysis/ separation (e.g. St. Georg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eleration of ion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95680" y="228240"/>
            <a:ext cx="4648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Who needs ion-optics </a:t>
            </a:r>
            <a:br>
              <a:rPr sz="2800"/>
            </a:b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nyway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43280" y="3276720"/>
            <a:ext cx="726876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ve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6*10</a:t>
            </a:r>
            <a:r>
              <a:rPr b="1" lang="en-US" sz="2000" spc="-1" strike="noStrike" baseline="30000">
                <a:solidFill>
                  <a:srgbClr val="00ff00"/>
                </a:solidFill>
                <a:latin typeface="Times New Roman"/>
              </a:rPr>
              <a:t>9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 people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have  - I hope so - happy lives without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group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ccelerator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re using it to build machin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at enables physicists to explore the unkow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Many physicis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sing accelerators, beam lines and magnet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or their data) needs some knowledge of ion-optic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is lecture series is an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ntroduc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o the last group and I will d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y best to let you in on the basics first and than we will discus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me of the applications of ion-optics and related topic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troductory remar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533520"/>
            <a:ext cx="8839440" cy="31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troduction for physicist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Focus on ion-optical definitions, and tools tha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e useful for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physicis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t the NSL &amp; future users of St. George recoil separa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ght optics can hardly be discussed without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lenses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amp; optical instrumen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on-optics requires knowledge of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element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Analogy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between Light Optics and Ion-Optics is useful but limi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Ion-optical &amp; magnet desig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tools needed to understand electro-magnet systems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Ion-optics is not even 100 years old and (still) less intuitive than optics develop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nce several hundred yea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76320" y="4419720"/>
          <a:ext cx="3657600" cy="235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4419720"/>
                    <a:ext cx="3657600" cy="23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AutoShape 6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>
            <a:off x="6915240" y="3733920"/>
            <a:ext cx="2228760" cy="3124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3654720" y="4800600"/>
            <a:ext cx="337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Galil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lescope 1609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ptics in Siderus Nuncius 16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145440" y="38862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imes New Roman"/>
              </a:rPr>
              <a:t>Historical remarks: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Rutherford, 1911, discovery of atomic nucle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Basic tools of the trad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04920" y="1066680"/>
            <a:ext cx="8550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ometry, drawing tools, CAD drafting program (e.g. AutoCa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inear Algebra (Matrix calculations), first order ion-optics (e.g. TRANSPO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igher order ion-optics code to solve equation of motion, (e.g. COSY Infinity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IOS, RAYTRACE (histori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ectro-magnetic field program (solution of  Maxwell’s Equations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e.g. finite element (FE) codes, 2d &amp; 3d: POISSON, TOSCA, MagNe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operties of incoming charged particles and design function of electro-magne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acility, beam, reaction products (e.g. kinematic codes, charge distributions of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vy ions, energy losses in target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any other specialized programs, e.g for accelerator design (e.g. synchrotrons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yclotrons) not covered in this lecure seri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7920" y="228600"/>
            <a:ext cx="40388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Literature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Text Box 1027"/>
          <p:cNvSpPr/>
          <p:nvPr/>
        </p:nvSpPr>
        <p:spPr>
          <a:xfrm>
            <a:off x="293400" y="1066680"/>
            <a:ext cx="8640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ptics of Charged Particles, Hermann Wollnik, Academic Press, Orlando,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Optics of Charged Particle Beams, David.C Carey, Harwood Academ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ublishers, New York 198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celerator Physics, S.Y. Lee, World Scientific Publishing, Singapore, 19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, A Computer Program for Designing Charged Particle Bea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 Systems, K.L. Brown, D.C. Carey, Ch. Iselin, F. Rotacker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port CERN 80-04, Geneva, 198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uter-Aided Design in Magnetics, D.A. Lowther, P. Silvester, Springer 198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ons in static or quasi-static electro-magnetic field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380880" y="1143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rentz For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9" name="Object 1024"/>
          <p:cNvGraphicFramePr/>
          <p:nvPr/>
        </p:nvGraphicFramePr>
        <p:xfrm>
          <a:off x="2286000" y="990720"/>
          <a:ext cx="3174840" cy="9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1024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286000" y="990720"/>
                    <a:ext cx="3174840" cy="9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6"/>
          <p:cNvSpPr/>
          <p:nvPr/>
        </p:nvSpPr>
        <p:spPr>
          <a:xfrm>
            <a:off x="6553080" y="838080"/>
            <a:ext cx="2438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 = electric char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agn. indu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electric fie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바탕"/>
              </a:rPr>
              <a:t>v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velo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685800" y="2666880"/>
            <a:ext cx="7486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mentum analys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e magnetic force is preferred because the force is always perpendicular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refore v, p and E are consta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707040" y="3352680"/>
            <a:ext cx="53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in magnetic dipo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s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q B </a:t>
            </a:r>
            <a:r>
              <a:rPr b="0" lang="en-US" sz="2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9"/>
          <p:cNvSpPr/>
          <p:nvPr/>
        </p:nvSpPr>
        <p:spPr>
          <a:xfrm>
            <a:off x="6400800" y="3352680"/>
            <a:ext cx="2421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= mv = momentu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UniversalMath1 BT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ending radiu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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gn. rigid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4708440" y="3627360"/>
            <a:ext cx="1158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689400" y="2209680"/>
            <a:ext cx="485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i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leration electr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ces are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1447920" y="4876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pole field 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paper pla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3276720" y="5257800"/>
            <a:ext cx="96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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389520" y="6324480"/>
            <a:ext cx="1544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(size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Group 24"/>
          <p:cNvGrpSpPr/>
          <p:nvPr/>
        </p:nvGrpSpPr>
        <p:grpSpPr>
          <a:xfrm>
            <a:off x="-609480" y="2706840"/>
            <a:ext cx="7543800" cy="4151160"/>
            <a:chOff x="-609480" y="2706840"/>
            <a:chExt cx="7543800" cy="4151160"/>
          </a:xfrm>
        </p:grpSpPr>
        <p:pic>
          <p:nvPicPr>
            <p:cNvPr id="141" name="Picture 22" descr="B_rho_concept"/>
            <p:cNvPicPr/>
            <p:nvPr/>
          </p:nvPicPr>
          <p:blipFill>
            <a:blip r:embed="rId3"/>
            <a:stretch/>
          </p:blipFill>
          <p:spPr>
            <a:xfrm>
              <a:off x="-609480" y="2706840"/>
              <a:ext cx="7543800" cy="41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6"/>
            <p:cNvSpPr/>
            <p:nvPr/>
          </p:nvSpPr>
          <p:spPr>
            <a:xfrm>
              <a:off x="746280" y="5165640"/>
              <a:ext cx="549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UniversalMath1 BT"/>
                  <a:ea typeface="UniversalMath1 BT"/>
                </a:rPr>
                <a:t>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3" name="Text Box 17"/>
          <p:cNvSpPr/>
          <p:nvPr/>
        </p:nvSpPr>
        <p:spPr>
          <a:xfrm>
            <a:off x="6172920" y="4419720"/>
            <a:ext cx="2655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rul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ing of magnetic syst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linear region result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e ion-op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4576680" y="5638680"/>
            <a:ext cx="2693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/</a:t>
            </a:r>
            <a:r>
              <a:rPr b="0" lang="en-US" sz="16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in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netic analys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Spectrometers, mag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parator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259240" y="4876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4726440" y="5257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4588200" y="43434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+</a:t>
            </a:r>
            <a:r>
              <a:rPr b="0" lang="en-US" sz="18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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5715000" y="1182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2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56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tion of BEAM for mathematical formulation of ion-optic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83040" y="914400"/>
            <a:ext cx="348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a beam, what shapes it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we know its properties 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380880" y="2133720"/>
            <a:ext cx="40388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parameters, the long li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rays and distrib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eam line elements, paraxial lin. approx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er orders in spectrome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ystem of diagnostic instrum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6" descr="beam_parametrization_c"/>
          <p:cNvPicPr/>
          <p:nvPr/>
        </p:nvPicPr>
        <p:blipFill>
          <a:blip r:embed="rId1"/>
          <a:stretch/>
        </p:blipFill>
        <p:spPr>
          <a:xfrm>
            <a:off x="304920" y="4038480"/>
            <a:ext cx="4190760" cy="1281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4"/>
          <p:cNvSpPr/>
          <p:nvPr/>
        </p:nvSpPr>
        <p:spPr>
          <a:xfrm>
            <a:off x="379080" y="5791320"/>
            <a:ext cx="46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to forget: Atomic charge Q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particles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3T15:12:40Z</dcterms:created>
  <dc:creator>Stefan G. Berg</dc:creator>
  <dc:description/>
  <dc:language>en-US</dc:language>
  <cp:lastModifiedBy>LEGION</cp:lastModifiedBy>
  <dcterms:modified xsi:type="dcterms:W3CDTF">2018-03-12T09:16:38Z</dcterms:modified>
  <cp:revision>100</cp:revision>
  <dc:subject/>
  <dc:title>Ion-Optics</dc:title>
</cp:coreProperties>
</file>